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C4BB-C53D-47E4-B406-6B54488F9B6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9393-4297-4316-9D92-CCCD8E4387B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574F-627C-49FC-A803-33A658BD29A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775C-6F9E-471A-A0BE-0CCF2F84889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E21F-FE1A-4A1B-B5FF-26D6C86C5FC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F1DE-3186-4EE3-9AFB-4A2C2F643BA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9006-A8B0-4096-B3EC-2D88E7FF915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0F59-0F5B-4924-8F6D-9187632B856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2F3E-3237-459C-89E0-917D073500E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4BC8-EEEF-4BB7-85BF-D688FFC584B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EAD2-3740-4198-81BB-5A4ACC5D599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DF33-56FC-48FD-A24E-05421FA3CA7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0256-0238-46EA-9DBD-087612D725A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AE6A-EAA6-464D-B0AB-F31AA9DA42B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0BBA-5F32-4FB1-96A2-0FB6BF6B426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31A6-8AB0-4223-A6AC-5B2C38A92BA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C532-49DE-4C2F-ACCA-6FA8ADF1DC4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5797-EE30-47F3-8F3E-7DED4C8377B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8DE7-615D-44FB-98B4-E3A937359C1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090E-C86A-4493-8824-A1F749CF53D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1542-C2E1-449D-A629-8E29B42FB86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87E-1D99-4DAF-AEF8-9D0CE475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E94-4BB4-4E71-A1B4-5EF6BE10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372-192E-4CB4-B7CF-8801B1E0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1B9-BA2D-4E0E-972F-BD5DDFA5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BE7-464D-44A9-BA07-252A8719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96D-C5DE-4347-ADA7-8D2A5FC9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F1E-300C-44DC-93FB-249A265C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C65-3503-43FD-9FEE-D38A36AC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7A6-C3CE-49B1-A390-60E7CD2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29C-BC70-4E6E-9EC3-FFD5CA25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4E3-53C9-4D17-A868-5074C846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0B9-141E-40A6-A30A-DB42489A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5836-973C-4A85-A4F5-55D95F04B3A6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αναιμία που προκαλείται από έλλειψη σιδήρου στον οργανισμό, εξαιτίας της οποίας επέρχεται διαταραχή στη σύνθεση της αιμοσφαιρίν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συχνότερη διατροφική διαταραχή, με συχνή εμφάνιση στις αναπτυγμένες χώρε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α βρέφη και τα παιδιά στις ΗΠΑ φτάνει το 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ις ηλικίες 16-19 ετών φτάνει το 1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260280"/>
          <a:ext cx="8893080" cy="6232680"/>
        </p:xfrm>
        <a:graphic>
          <a:graphicData uri="http://schemas.openxmlformats.org/drawingml/2006/table">
            <a:tbl>
              <a:tblPr/>
              <a:tblGrid>
                <a:gridCol w="3268440"/>
                <a:gridCol w="5624640"/>
              </a:tblGrid>
              <a:tr h="5486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ΙΤΙΑ ΣΙΔΗΡΟΠΕΝΙΑΣ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ρόσληψ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Υποσιτ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Χορτοφαγ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ακρόχρονη νηστε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απορρόφη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χλωρυδρία (από φάρμακα ή γαστρίτιδ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ίωση περιοχής απορρόφησης (εγχειρήσεις, παθήσεις εντέρο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Β</a:t>
                      </a:r>
                      <a:r>
                        <a:rPr b="1" lang="el-GR" sz="2000" spc="-1" strike="noStrike" baseline="-25000">
                          <a:solidFill>
                            <a:srgbClr val="00206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φυλικού οξέ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ενδογενούς παράγ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ες ανάγκ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Παιδιά, έφηβ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Κύ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Θηλα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63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απώλε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Έμμηνος ρύ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γαστρεντερικού (φάρμακα, πολύποδες, φλεγμονώδεις νόσοι,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a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εντέρου, έλμινθες, κλ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ουροποιητικο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ΞΕΛΙΞ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1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λάττωση αποθεμάτων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φεριτ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2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ξάλειψη αποθεμάτ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κορεσμού τρανσφερίνης &lt;1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Υπόχρωμα μικροκυτταρικά ερυθρά (↓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αιμοποίησης, ερυθροποίη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διάρκειας ζωής ερυθρώ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ισο-, ποικιλλο-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3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κσεσημασμένη υποχρω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ιδεινούμενη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επαρκής παραγωγή σιδηρούχων ενζύμων και πρωτεϊνώ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ΕΣ ΕΚΔΗΛΩΣΕΙ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Κακουχία, μείωση δύναμης και αντοχής, αίσθημα παλμών,  δυσπνοια, κεφαλαλγία, ωχρότητα,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ε παρατεταμένη σιδηροπενία, διαταραχές επιθηλιακών ιστών (νύχια, γωνιακή χειλίτιδα, στοματίτιδα, τριχόπτωση, ατροφική γαστρίτιδα, παγοφαγία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07560"/>
            <a:ext cx="850752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ριθμός ΔΕΚ φυσιολογικ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ρυθροκύτταρα μικρά και ωχρά (μικροκυττάρωση – ανισοκυττάρω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ος όγκος ερυθρών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(MCV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η πυκνότητα αιμοσφαιρίνης (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H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ίδηρος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Φεριτίνη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ιδηροδεσμευτική ικανότητα τρανσφερίνης (ΤΙΒ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Σε βαρειά μορφή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ατοκρίτη – αιμοσφαιρ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Θρομβοκυττάρωση (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αιμοπεταλίω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002060"/>
                </a:solidFill>
                <a:uFillTx/>
                <a:latin typeface="Calibri"/>
              </a:rPr>
              <a:t>Στο μυελό των οστ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ύξηση ερυθρής σειράς με διαταραχή ωρίμαν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ποκατάσταση επιπέδων σιδήρου με χορήγηση σιδήρου από το στόμα ή παρεντερικά, ΑΦΟΥ ΠΡΟΗΓΟΥΜΕΝΩΣ ΑΠΟΚΛΕΙΣΘΕΙ ΤΟ ΕΝΔΕΧΟΜΕΝΟ ΑΙΜΟΡΡΑΓΙΑ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Προληπτική χορήγηση σε μερικές περιπτώσεις αύξησης αναγκών (κύηση, βρεφική ηλικία κλ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ίναι η αναιμία που συνοδεύει παθολογικές καταστάσεις οι οποίες χαρακτηρίζονται από οξεία ή χρόνια ανοσολογική διέγερσ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Λέγεται και «αναιμία της φλεγμονή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ΠΑΘΟΦΥΣΙΟΛΟΓΙΑ </a:t>
            </a:r>
            <a:br>
              <a:rPr sz="4000"/>
            </a:b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ΗΣ ΑΝΑΙΜΙΑΣ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ι εκδηλώσεις της αναιμίας οφείλονται σ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ομοιόστασης του σιδή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λάττωση διάρκειας ζωής ερυθρ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πολλαπλασιασμού προδρόμων κυττάρων της ερυθρής σειρά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στην παραγωγή και δράση της ερυθροποιητίν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ΟΡΙΣΜ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αιμία είναι η ελάττωση του αιματοκρίτη ή της αιμοσφαιρίνης ή του αριθμού των ερυθρών αιμοσφαιρίων σε επίπεδα κατώτερα τουλάχιστον κατά 10% της φυσιολογικής τιμής τους στον συγκεκριμένο πληθυσμ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ό μόνη της δεν είναι νόσος. Μπορεί να αποτελεί εκδήλωση μιας πολύ απλής και φυσιολογικής κατάστασης (π.χ. διατροφής χωρίς πολύ σίδερο) μέχρι μιας πολύ σοβαρής κατάστασης (π.χ. μετάστασης στα οστά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ΤΙΟΛΟΓ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Οξείες και χρόνιες λοιμώξεις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νευμόνων, ενδοκαρδίτιδα, οστεομυελίτιδα, μηνιγγίτιδα, ηπατίτιδες κλ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Χρόνια μη φλεγμονώδη νοσήματα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ρευματοειδής αρθρίτιδα, ρευματοειδής πυρετός, ερυθημετώδης λύκος, σαρκοείδωση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Κακοήθεις νόσοι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όγκοι, λεμφώματα, λευχαιμίες,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Άλλες καταστάσει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αλκοολική ηπατίτιδα, καρδιακή ανεπάρκεια, στεφανιαία νόσος, θρομβοφλεβίτιδ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Αριθμός ερυθρών:  Α:  4,7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7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3,8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2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οσφαιρίνης: Α: 14-16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12-14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ατοκρίτη:      Α: 42% - 52% (μ.ο. 47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37% - 47% (μ.ο. 42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Οι ΦΤ έχουν μέση τιμή και τυπική απόκλιση (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(δηλαδή έχουν ένα εύρος τιμώ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 ΚΑΤΆ ΗΛΙΚ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νεογνά υψηλότερ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βρέφη μει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ην προεφηβική ηλικία ίδιες στα δύο φύ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ε την ενηλικίωση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υς άνδρε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ατοκρίτη 4-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οσφαιρίνης κατά 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ΠΑΘΟΦΥΣΙΟΛΟΓΙΑ ΑΝΑΙΜΙ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92280"/>
            <a:ext cx="8578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ναιμία οδηγεί σε υποξία των ιστώ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υποξία κινητοποιεί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τιρροπιστικούς μηχανισμούς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1. Αύξηση έκκρισης ερυθροποιητίνης (στους νεφρού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στο πλάσμα αυξάνει μέχρι και 1000 φορές, ενώ στο μυελό των οστών μέχρι 6-8 φορέ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2. Μείωση της συγγένειας αιμοσφαιρίνης-οξυγόνου (ευκολότερη απελευθέρωση οξυγό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3. Μείωση κατανάλωσης οξυγόνου (αύξηση αναερόβιας γλυκόλυσ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4. Ανακατανομή αιμάτω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5. Αύξηση καρδιακής παροχ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6. Αύξηση ρυθμού αναπνο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Η ΕΚΤΙΜΗ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ε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ταχεία εμφάνιση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ς (π.χ. λόγω μεγάλης απώλειας αίματος ή αιμόλυσης), εμφανίζεται κακουχία, ταχυκαρδία, αίσθημα παλμών, αίσθημα κόπωσης, μείωση δύναμης και αντοχής, δύσπνοια, κεφαλαλγία, ωχρότητα, κλ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ε βραδεία εμφάνιση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η συμπτωματολογία είναι ήπια λόγω αντιρροπιστικών μηχανισμώ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ΟΣ ΕΛΕΓΧΟΣ ΑΝΑΙΜΙΩ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ιματοκρίτης - Αιμοσφαιρίν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ρυθροκυτταρικοί δείκτ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Ολική σιδηροδεσμευτική ικανότητα (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IB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Φερριτίνη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δικτυοερυθροκυττάρ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λευκών – λευκοκυτταρικός τύπ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ιθμός και ποιότητα αιμοπεταλί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Μορφολογία ερυθρ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πίχρισμα βιοψίας μυελού οστ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ΑΞΙΝΟΜΗΣΗ ΑΝΑΙΜΙΩ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950760"/>
          <a:ext cx="8785440" cy="592776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451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ΑΤΗΓΟΡ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ΝΑΙΜ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αραγωγ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πεν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γαλοβ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π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ναιμία χρονίας νόσ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καταστροφ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αιμολυτικές αναιμίε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Οξεία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Κληρονομική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υτοάνοση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νδοκυτταρική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ξωκυτταρική αιμολυτική (ενδο-αγγεια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                                             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εξω-αγγειακή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πώλεια αίμα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θαιμορραγ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η αποδοτική ερυθροποί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βλαστικές αναιμί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ιμοσφαιρινοπάθει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- και β-Μεσογεια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Δρεπανοκυτταρ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4:29:58Z</dcterms:created>
  <dc:creator>TEI LARISA</dc:creator>
  <dc:description/>
  <dc:language>en-US</dc:language>
  <cp:lastModifiedBy>Χρήστος</cp:lastModifiedBy>
  <dcterms:modified xsi:type="dcterms:W3CDTF">2013-06-05T06:18:37Z</dcterms:modified>
  <cp:revision>25</cp:revision>
  <dc:subject/>
  <dc:title>Παρουσίαση του PowerPoint</dc:title>
</cp:coreProperties>
</file>